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A4BD-E6FE-4095-AE7F-A3AFF001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CF3-4468-4772-B0B4-C230B9F9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B3F-504E-4FB2-A086-0E7DBEAE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1F4-9AF8-45B5-B60E-15B29D49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7A8-2CFA-49EC-A076-12D7A7C2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1AB-24B5-4ED5-AEFA-3A5EAB06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765-E5FA-4A57-AA1B-F559FDC7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A4E-108E-4F00-9479-7E292649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238-5B42-45B4-9E39-B622B7B6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D7B-F105-47B5-9BEE-BD1EACBF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1686-6C0C-48F0-8706-49D67DF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F5E-54AE-4ACF-AA24-33D23194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F952-9A87-40BD-AB75-DC16EA640550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宋体"/>
              </a:rPr>
              <a:t>國王（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宋体"/>
              </a:rPr>
              <a:t>325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宋体"/>
              </a:rPr>
              <a:t>號星球）</a:t>
            </a:r>
            <a:br>
              <a:rPr sz="48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第一顆小王子拜訪的星球，第十章，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39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宋体"/>
              </a:rPr>
              <a:t>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5562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組員：楊竣淘，林秉義，陳建一，張櫻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www.dreamkidland.cn/cpth/xwz/xwz25.jpg"/>
          <p:cNvPicPr/>
          <p:nvPr/>
        </p:nvPicPr>
        <p:blipFill>
          <a:blip r:embed="rId1"/>
          <a:stretch/>
        </p:blipFill>
        <p:spPr>
          <a:xfrm>
            <a:off x="4572000" y="1219320"/>
            <a:ext cx="39495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星球外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http://www.dreamkidland.cn/cpth/xwz/xwz25.jpg"/>
          <p:cNvPicPr/>
          <p:nvPr/>
        </p:nvPicPr>
        <p:blipFill>
          <a:blip r:embed="rId1"/>
          <a:stretch/>
        </p:blipFill>
        <p:spPr>
          <a:xfrm>
            <a:off x="4572000" y="1295280"/>
            <a:ext cx="4141800" cy="4324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838080" y="1523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體積：只能容下一個寳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顔色：根據圖畫裏是橙色的，不過書中沒有提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狀：圓圓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事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小王子去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25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號星球（這是他第一個拜訪的星球）。他遇到了國王，跟國王聊了幾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過程當中，小王子被國王的命令及權力而感到緊張及膽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怯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小王子問了國王關於他的權力及統治什麽的問題，最後小王子問了國王什麽時候才能看到太陽下山。國王回答說要在七點多才能看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不過小王子最終也離去了這顆星球，因爲還要等太陽下山及現在根本沒事做和很無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國王本想封小王子當司法大臣，把他留下，但是小王子說這顆星球根本沒有生物去判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結果國王還命令小王子當大使與在一分鐘内離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因此小王子覺得大人真奇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語言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那麽我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… …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我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命令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你一會兒打，一會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… …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”他說話有點結巴，顯得很氣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他氣惱的原因是因爲他覺得自己很失禮，不是一個明白事理的國王，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對自己要求很高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不滿意自己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國王駕前打哈欠，有違宮廷禮節。”國王對他說，“我禁止你這樣做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這表現了國王很專制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統治一切，”國王答地乾脆極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國王很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驕傲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自己的能力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心理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因爲國王主要是關心他的權威能否受到尊重。他不容許違抗聖命。這是一個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專制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的君王。但是，他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善良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下達一些合情合理的命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小王子尊重國王，覺得他專制，善良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那麽我的太陽下山呢？”小王子重提了一句，他一旦提出一個問題，從來不會忘記追問到底。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小王子非常</a:t>
            </a:r>
            <a:r>
              <a:rPr b="0" lang="zh-CN" sz="2400" spc="-1" strike="noStrike">
                <a:solidFill>
                  <a:srgbClr val="0070c0"/>
                </a:solidFill>
                <a:latin typeface="Calibri"/>
                <a:ea typeface="宋体"/>
              </a:rPr>
              <a:t>好奇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一定會尋根到底，找出答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動作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我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命令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你坐下，”國王回答，威嚴地撩了一下白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鼬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長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國王想自己有權威，有威嚴，所以動作很有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王者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宋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強者風範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非常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瀟灑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自如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頁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國王含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蓄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指指自己的星球，其他星球，其他星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國王很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自豪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自己統治的一切一切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特徵與性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由行動</a:t>
            </a:r>
            <a:r>
              <a:rPr b="0" lang="zh-HK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語言及心理描寫中，我們可以看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國王的性格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對自己要求很高，驕傲，專制，善良，擁有王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強者風範及自豪，喜歡命令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特徵：穿著白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鼬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皮紫緞長袍，端坐在十分簡樸肅然而威嚴的寳座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小王子的性格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好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現實中似哪一種人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獅子座的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現實中，國王像是那些具有王者風範的強者，因爲那種人對自己的要求很高，及是必須要別人尊重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假如有些人狂妄自大，不放國王這種人在眼内的話，國王這種人一定會對他極爲不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屑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任何人夠膽向國王無禮的話，他一定輸得好慘，因爲國王會兇巴巴地批評他。可想而知，獅子發起怒來，不是好惹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由於國王對人大方，善良，合情合理，因此人際關係應該挺廣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獅子座的人具有貴族氣息，有王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強者風範，喜愛華麗輝煌的事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1:40:05Z</dcterms:created>
  <dc:creator>JAAP</dc:creator>
  <dc:description/>
  <dc:language>en-US</dc:language>
  <cp:lastModifiedBy>carollam</cp:lastModifiedBy>
  <dcterms:modified xsi:type="dcterms:W3CDTF">2011-05-24T05:37:34Z</dcterms:modified>
  <cp:revision>59</cp:revision>
  <dc:subject/>
  <dc:title>國王 （325星球）</dc:title>
</cp:coreProperties>
</file>